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2082-601F-46E5-AB3A-CEA13471E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A5F2-87C9-45D6-A7B6-3488968B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330E-BB4F-4000-9C5C-1533F1CA4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24D6-D1CD-4B2C-8796-4B9DF0434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FA54-E6FC-4503-B63C-79824C056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BF88-7E0B-494F-B621-C3BC2ADF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0DCF-07DF-40C2-95A4-FA3AE09C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C77F-980C-4A0E-BBF3-E634E393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1888-E60A-48D2-8968-3AA987E3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E6C1-C788-4E2C-B591-AE1E809A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1C66-089C-4803-A9A7-2DBBB781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A021-BDEA-4882-A656-61031FD0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1FC6-1305-4EF2-862C-04A40A3B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4FB0-90AF-4C2D-A41C-8BD5457B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ABF1-7AF7-48F6-BBAF-30530D92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8C82-9626-4327-9C1A-C743619E5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2066-6909-46F2-B30F-9A1E0F362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B0E1-1371-46F4-8843-0D60CB9E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389B-FB8A-41F8-9D5D-DE7E42CB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0455-908E-4EB5-933C-99FB02DE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1023-D332-47C4-832E-3773A9A1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0D92-923F-4C4E-922C-D512F6DB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22AB-C27A-49F0-8B42-ADCB5E8C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664B-749C-456A-815E-E71D0A93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6FBD-E405-49F2-99BF-2A98EFD1F019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C5EB-A65D-4276-8B8B-FCFFEB785AEB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LF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8/31/09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rth Rockland Administrator’s “Wiki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acher Use of “Wiki’s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ree safe place to post content on the interne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383080" y="2514600"/>
            <a:ext cx="2556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acher U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mework Assign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roup Assign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d Cas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 Present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lip Cam” Vide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acher U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t up op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o can vie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o can 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181480" y="2660760"/>
            <a:ext cx="2667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acher U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asy to u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asy to add cont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re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asy to set perimeter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perform better when they have an audienc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486400" y="2286000"/>
            <a:ext cx="26337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ikis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630760" y="2057400"/>
            <a:ext cx="2498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 is a “Wiki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ebsite that allows the user (s) to post and share content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670720" y="1600200"/>
            <a:ext cx="2489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ministrative U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hare information to help make us more produce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257800" y="2362320"/>
            <a:ext cx="30337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ype of Information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tt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senta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tic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ndou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formation from Centr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105520" y="2824200"/>
            <a:ext cx="335268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a “Wiki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entralized 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re Efficient than Ema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rge Docu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t’s Fre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105520" y="2486160"/>
            <a:ext cx="297180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ur “Wiki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ww.nrcsdadmin.wikispaces.com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181480" y="2133720"/>
            <a:ext cx="350532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ing Cont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oose page to edi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 curser to area to add t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gin typing descrip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181480" y="2198520"/>
            <a:ext cx="396252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ing Cont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lick on the picture ic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rowse your computer for the documen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pen i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uble click to ad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105520" y="2498760"/>
            <a:ext cx="327636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ing Cont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view screen cast on “Home Page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307120" y="2057400"/>
            <a:ext cx="2985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1:36:51Z</dcterms:created>
  <dc:creator>North Rockland Schools</dc:creator>
  <dc:description/>
  <dc:language>en-US</dc:language>
  <cp:lastModifiedBy>North Rockland Schools</cp:lastModifiedBy>
  <dcterms:modified xsi:type="dcterms:W3CDTF">2009-08-31T11:53:42Z</dcterms:modified>
  <cp:revision>2</cp:revision>
  <dc:subject/>
  <dc:title>ALF 8/31/09 </dc:title>
</cp:coreProperties>
</file>